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94920" y="68544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48BA0-018A-4A84-823D-18ADFAF25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1C059-F453-4FEA-B795-8B0B51281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website and email for any necessary followup or inform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A2791-17E2-4017-BC8E-2EB4E3F21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06163-9274-41EC-AAF8-79066AE36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21B8A-1B3D-49F1-A914-59D0A09A9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people to qiat.org. as the websi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peo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dress at the left bottom of the slide is the address of the QIAT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dress at the right is the QIAT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57D4-9873-4402-8214-797A9905F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F387-EA88-4994-9DA5-EB24785D1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8AD63-16FF-431B-B98A-5EAA97E45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F6E7D-4E34-49A4-BBE5-67C0D8AA6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1FF28-CA6E-468A-899E-599DDF34E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19A26-9AEB-41A8-9A67-D139B0B0F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D3F7B-2033-4027-8ACF-8149888EA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815CD-9F41-4BB6-9311-FCB092131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1EAB5-A5FA-4F6A-832C-A32B79C16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04AB9-95E9-467D-B03B-AED648344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1BCC9-C53D-4245-8EC2-524F9CA35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FDEA-C146-4D02-BC59-16178C617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DD5C3-0B35-442C-B84B-ADDE8F966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BD28A-ECC8-478F-AEAB-BE3301025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381FB-95D1-477C-BC1A-9D273DAD0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E326-176B-45E1-ABE8-432A0FC3E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4F6BD-16B3-4A7D-A63E-EEAC5EE94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3AB4B-BE0F-41E5-9627-C2B5B8230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C9D08-AD3B-4321-99F6-9AA7C7C2A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537E0-C920-446A-B00D-C1B80658D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82CA6-A0C1-4F95-8F3C-30A5DEDF1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CB25D-FFBA-47D4-9A54-6539027F5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6D490-C88D-4874-8149-349A22C0C4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672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028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672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028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0199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672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4028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672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4028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0199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6095880" y="6095880"/>
            <a:ext cx="266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ttp://www.qiat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533520" y="6095880"/>
            <a:ext cx="3124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QIATleadership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" name="Object 35"/>
          <p:cNvGraphicFramePr/>
          <p:nvPr/>
        </p:nvGraphicFramePr>
        <p:xfrm>
          <a:off x="762120" y="762120"/>
          <a:ext cx="1295280" cy="10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129528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380880" y="38088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095880" y="6095880"/>
            <a:ext cx="266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ttp://www.qiat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33520" y="6095880"/>
            <a:ext cx="3124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QIATleadership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80880" y="38088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3200400" y="838080"/>
          <a:ext cx="2666880" cy="21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838080"/>
                    <a:ext cx="2666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QIATleadership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QIAT Conversations 2014:</a:t>
            </a:r>
            <a:br>
              <a:rPr sz="3200"/>
            </a:b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 Using QIAT Tools to Support and Improve Your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Contents of Each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90920" y="32763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57400" y="2438280"/>
            <a:ext cx="5486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Title  (Area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Assumptions for ALL Ar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on-going collaborative wor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ethical pract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egally correct and aligned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licable regardless of the model of service delivery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licable to other service plans and progra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QIAT On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QIAT Lis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ial conversat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information and updat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perspectiv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to 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Picture 5" descr="MP900401814[1]"/>
          <p:cNvPicPr/>
          <p:nvPr/>
        </p:nvPicPr>
        <p:blipFill>
          <a:blip r:embed="rId1"/>
          <a:stretch/>
        </p:blipFill>
        <p:spPr>
          <a:xfrm>
            <a:off x="5410080" y="2971800"/>
            <a:ext cx="263700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762120" y="3429000"/>
            <a:ext cx="76197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9e5"/>
                </a:solidFill>
                <a:latin typeface="Arial"/>
              </a:rPr>
              <a:t>Tools and Documents for Continuous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Documents an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Indicators and Common Erro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Matr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ing Docu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in Action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ed List of 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9140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Indicators and </a:t>
            </a:r>
            <a:br>
              <a:rPr sz="3200"/>
            </a:b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Common Err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666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7 Indicators in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statements for each indicat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rrors in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Consideration Example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Indicator #4 with Intent Statem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mmon Error #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9807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Indicator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cisions regarding the need for assistive technology devices and service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ed on the student’s IEP goals and objectives, access to curricular and extracurricular activities, and progress in the general education curriculum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t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IEP team determines the tasks the student needs to complete and develops the goals and objectives, the team considers whether assistive technology is required to accomplish those tasks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Error #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am members fail to consider access to the curriculum and IEP goals in determining if AT is required in order for the student to receive FAP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Matr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rubric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range of practice from unacceptable to promis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as self-evaluation and improvement planning tool that can be used by states, districts, teams, individu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019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x Example for Consideration Quality Indicator #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MatrixConsiderationQI4.tiff"/>
          <p:cNvPicPr/>
          <p:nvPr/>
        </p:nvPicPr>
        <p:blipFill>
          <a:blip r:embed="rId1"/>
          <a:stretch/>
        </p:blipFill>
        <p:spPr>
          <a:xfrm>
            <a:off x="685800" y="2666880"/>
            <a:ext cx="7699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Guiding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upon the Quality Indicators providing additional dept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cation paragraph for each Indicat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Scenario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Framing the S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a brief overview QIAT Indicator areas and supporting docu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tools and documents that support continuous improvement of AT services within the context of AT Consider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stories about how QIAT supports your consideration pro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ing Document for Consideration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GuideingDoc.QIATConsideration4.tiff"/>
          <p:cNvPicPr/>
          <p:nvPr/>
        </p:nvPicPr>
        <p:blipFill>
          <a:blip r:embed="rId1"/>
          <a:stretch/>
        </p:blipFill>
        <p:spPr>
          <a:xfrm>
            <a:off x="2647800" y="1676520"/>
            <a:ext cx="43624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in 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forms and brief supplementary document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practitioners at QIAT Summi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at regional and national conferen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ted by QIAT Leadershi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 Gu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QIATConsiderationGuide.tiff"/>
          <p:cNvPicPr/>
          <p:nvPr/>
        </p:nvPicPr>
        <p:blipFill>
          <a:blip r:embed="rId1"/>
          <a:stretch/>
        </p:blipFill>
        <p:spPr>
          <a:xfrm>
            <a:off x="2614680" y="1828800"/>
            <a:ext cx="5234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Resource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learning more arranged by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items from websi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list of commercially available mate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Resource 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ce on the website where individuals within the QIAT Community can post materi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 are freely shared by develop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on of materials in the Resource Bank does not indicate endorsement by QIAT Leadershi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914400" y="3511440"/>
            <a:ext cx="76201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9e5"/>
                </a:solidFill>
                <a:latin typeface="Arial"/>
              </a:rPr>
              <a:t>Share your Stories on How QIAT Supports Consideration in your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Sharing Your S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 3 or 4 folks close to yo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how you are using QIAT Consideration 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prepared to share one 2-minute success story from your group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Putting QIAT to Work for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the documents and resources on the QIAT web sit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with others on the QIAT Lis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 need help or have a concern, contact the Leadership Team a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QIATleadership@gmail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o individual email address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838080" y="373860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A Brief Overview of QI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Mission 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6877080" cy="124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ssion of QIAT is to guide the provision of quality AT services to improve educational achievement of students with disabilities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Purpose of QI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7391160" cy="32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 improvement of  AT services in order to improve the educational participation and results of students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quality of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consistency of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implementation IDEA and other legal mandat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Beneficiaries of QIAT</a:t>
            </a:r>
            <a:r>
              <a:rPr b="1" lang="en-US" sz="3600" spc="-1" strike="noStrike">
                <a:solidFill>
                  <a:srgbClr val="104dd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quality AT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continuous improvement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and famili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integrated AT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259e5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competent service provid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-maker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259e5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judicious polic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908840" y="487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3259e5"/>
                </a:solidFill>
                <a:latin typeface="Arial"/>
              </a:rPr>
              <a:t>QIAT Development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to Pres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Primary QIA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2285640"/>
            <a:ext cx="6095880" cy="19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ors in 8 area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d in 200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for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Web sit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8 QIAT Ar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32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in the IE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5760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Effectiven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Support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19:34:56Z</dcterms:created>
  <dc:creator>Jim Moore</dc:creator>
  <dc:description/>
  <dc:language>en-US</dc:language>
  <cp:lastModifiedBy>Scott Marfilius</cp:lastModifiedBy>
  <cp:lastPrinted>2002-11-20T13:46:00Z</cp:lastPrinted>
  <dcterms:modified xsi:type="dcterms:W3CDTF">2014-03-18T12:41:40Z</dcterms:modified>
  <cp:revision>740</cp:revision>
  <dc:subject/>
  <dc:title>Design Process</dc:title>
</cp:coreProperties>
</file>